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7C13-9E42-40CB-8131-D3E7F0F1A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02DF-4970-4F6E-9243-72B26206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BCE5-1F4E-4710-BC15-64B2594BC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2F32-FBFD-4601-9661-A50D119EB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983F-A422-445D-A099-9431FC03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F161-FAB1-4949-B20F-1105DE23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0277-FF4D-4870-9CA4-AD2D9A9A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41D7-4EEE-4E61-98A5-D4A7B789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293A-C78A-4AA0-BD68-AA87F738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BE56-5ACE-413F-9B00-5BCCBBCE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73CC-64A7-4F18-B59F-55A34538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92B8-EF9B-42AE-AA96-A59609FC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A2E6-DC9C-42B4-850E-92AF0781D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_ Clase 7IL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14 de diciembre del 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7631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32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te due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fine los cognados en ing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síntom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diag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aler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inye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medic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d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tabl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aspir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antibió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93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ocabulario Nue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¿Que te duele?          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¿Tienes dolor de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1904760" cy="1762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505320" y="1676520"/>
            <a:ext cx="1685880" cy="1752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553080" y="1676520"/>
            <a:ext cx="1981440" cy="1666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5334120" y="4114800"/>
            <a:ext cx="1366560" cy="2057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1143000" y="4724280"/>
            <a:ext cx="1724040" cy="1297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10560" y="1219320"/>
            <a:ext cx="27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hat hurts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27160" y="1219320"/>
            <a:ext cx="34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o you have…pa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8560" y="6019920"/>
            <a:ext cx="29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Me duele la espal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0" y="4038480"/>
            <a:ext cx="32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Tengo dolor de cab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9800" y="3429000"/>
            <a:ext cx="304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Me duele la garg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08200" y="3809880"/>
            <a:ext cx="18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Tengo dol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de garg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47200" y="3200400"/>
            <a:ext cx="31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Me duele el estom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80440" y="3581280"/>
            <a:ext cx="202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Tengo d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de estom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6600" y="365760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Me duele la cab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6640" y="6400800"/>
            <a:ext cx="33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Tengo dolor de espal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19120" y="6095880"/>
            <a:ext cx="26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Me duele la mu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14760" y="6400800"/>
            <a:ext cx="31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Tengo dolor de mu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505320" y="457200"/>
            <a:ext cx="1981080" cy="1838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334120" y="3860640"/>
            <a:ext cx="3504960" cy="2324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384960" y="380880"/>
            <a:ext cx="2378160" cy="2590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228600" y="228600"/>
            <a:ext cx="2743200" cy="2416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609480" y="3733920"/>
            <a:ext cx="2870280" cy="2152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57120" y="259092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Me duele la pi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40" y="3048120"/>
            <a:ext cx="316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Tengo dolor de pi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5000" y="228600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Me duele el 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4720" y="2743200"/>
            <a:ext cx="27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Tengo dolor de 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09000" y="2971800"/>
            <a:ext cx="26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Me duele el br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63480" y="3352680"/>
            <a:ext cx="30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Tengo dolor de br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6640" y="5867280"/>
            <a:ext cx="26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Me duele la 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0760" y="6248520"/>
            <a:ext cx="30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Tengo dolor de 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37720" y="6019920"/>
            <a:ext cx="34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Me duele todo el cuer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8440" y="640080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Tengo dolor de cuer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3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1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1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02:30:57Z</dcterms:created>
  <dc:creator>Helen Zumaeta</dc:creator>
  <dc:description/>
  <dc:language>en-US</dc:language>
  <cp:lastModifiedBy>Helen Zumaeta</cp:lastModifiedBy>
  <dcterms:modified xsi:type="dcterms:W3CDTF">2012-12-17T21:14:52Z</dcterms:modified>
  <cp:revision>9</cp:revision>
  <dc:subject/>
  <dc:title>Me llamo _________ Clase 8IM La fecha es el 5 de mayo del 2011</dc:title>
</cp:coreProperties>
</file>